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7416-D1D5-4912-9120-16943CA11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0B32-F30B-400F-B81C-3897D48F168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DB5C-50DC-4465-9CCF-AC32CE8082E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9F98-A8A6-4979-9BFF-13D41D17F88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8D78-8007-493E-B981-6A5F30534F0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623-9F59-448A-B25F-2EECA8BA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B06-558F-4C28-837B-56F6E218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8C5-AAE4-4615-B41E-8112DFA9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4A7-7FD8-4B5C-89AF-94B68428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F94-51B3-4FBB-A256-0E8232BB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7E57-A35B-4C3D-95A2-95F99DE4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866D-212E-4695-8D5A-ECBE8ADEC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BE52-1EB3-4F7C-B185-3A63948E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365-2A20-4557-BB3B-D748A124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C5C-FCE6-4090-A09F-51F656B9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F89-A7CF-47E6-BDBC-BCAD6EF8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8A2-0C43-4809-9FF1-D320DECC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E5B3-86AC-41B0-8F44-E5ED25453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tmp/home/.config/libreoffice/4/user/gallery/arrow.wav" TargetMode="External"/><Relationship Id="rId3" Type="http://schemas.openxmlformats.org/officeDocument/2006/relationships/hyperlink" Target="file:///tmp/home/.config/libreoffice/4/user/gallery/arrow.wa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228600" y="228600"/>
            <a:ext cx="861048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一零年三月二十五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期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290760" y="266688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2060"/>
                </a:solidFill>
                <a:latin typeface="文鼎標楷下漢語寬拼音C1"/>
                <a:ea typeface="文鼎標楷下漢語寬拼音C1"/>
              </a:rPr>
              <a:t>從</a:t>
            </a: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學校開車回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6714000" y="6858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騎</a:t>
            </a: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637680" y="37339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坐</a:t>
            </a: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5257800" y="3352680"/>
            <a:ext cx="3429000" cy="2224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http://www.istockphoto.com/file_thumbview_approve/5665302/2/istockphoto_5665302-biker-on-motorcycle.jpg"/>
          <p:cNvPicPr/>
          <p:nvPr/>
        </p:nvPicPr>
        <p:blipFill>
          <a:blip r:embed="rId2"/>
          <a:stretch/>
        </p:blipFill>
        <p:spPr>
          <a:xfrm>
            <a:off x="5181480" y="380880"/>
            <a:ext cx="3551400" cy="2133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0"/>
          <p:cNvSpPr/>
          <p:nvPr/>
        </p:nvSpPr>
        <p:spPr>
          <a:xfrm>
            <a:off x="914400" y="914400"/>
            <a:ext cx="281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開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219320" y="3886200"/>
            <a:ext cx="320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停</a:t>
            </a: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685800" y="304920"/>
            <a:ext cx="3429000" cy="222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11-92"/>
          <p:cNvPicPr/>
          <p:nvPr/>
        </p:nvPicPr>
        <p:blipFill>
          <a:blip r:embed="rId4"/>
          <a:stretch/>
        </p:blipFill>
        <p:spPr>
          <a:xfrm>
            <a:off x="1219320" y="3657600"/>
            <a:ext cx="2590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9"/>
          <p:cNvGrpSpPr/>
          <p:nvPr/>
        </p:nvGrpSpPr>
        <p:grpSpPr>
          <a:xfrm>
            <a:off x="-43560" y="0"/>
            <a:ext cx="9340200" cy="6858000"/>
            <a:chOff x="-43560" y="0"/>
            <a:chExt cx="9340200" cy="6858000"/>
          </a:xfrm>
        </p:grpSpPr>
        <p:grpSp>
          <p:nvGrpSpPr>
            <p:cNvPr id="59" name="Group 7"/>
            <p:cNvGrpSpPr/>
            <p:nvPr/>
          </p:nvGrpSpPr>
          <p:grpSpPr>
            <a:xfrm>
              <a:off x="-43560" y="0"/>
              <a:ext cx="9340200" cy="6858000"/>
              <a:chOff x="-43560" y="0"/>
              <a:chExt cx="9340200" cy="6858000"/>
            </a:xfrm>
          </p:grpSpPr>
          <p:pic>
            <p:nvPicPr>
              <p:cNvPr id="60" name="Picture 1" descr="scan0001_0.tmp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296640" cy="685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1" name="TextBox 2"/>
              <p:cNvGrpSpPr/>
              <p:nvPr/>
            </p:nvGrpSpPr>
            <p:grpSpPr>
              <a:xfrm>
                <a:off x="219240" y="371520"/>
                <a:ext cx="5199840" cy="670320"/>
                <a:chOff x="219240" y="371520"/>
                <a:chExt cx="5199840" cy="670320"/>
              </a:xfrm>
            </p:grpSpPr>
            <p:pic>
              <p:nvPicPr>
                <p:cNvPr id="62" name="TextBox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19240" y="371520"/>
                  <a:ext cx="5199840" cy="670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" name=""/>
                <p:cNvSpPr/>
                <p:nvPr/>
              </p:nvSpPr>
              <p:spPr>
                <a:xfrm>
                  <a:off x="228240" y="380520"/>
                  <a:ext cx="5181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TW" sz="3600" spc="-1" strike="noStrike">
                      <a:solidFill>
                        <a:srgbClr val="c00000"/>
                      </a:solidFill>
                      <a:latin typeface="文鼎標楷下漢語寬拼音C1"/>
                      <a:ea typeface="文鼎標楷下漢語寬拼音C1"/>
                    </a:rPr>
                    <a:t>從學校開車回家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Cloud Callout 4"/>
              <p:cNvSpPr/>
              <p:nvPr/>
            </p:nvSpPr>
            <p:spPr>
              <a:xfrm rot="21353400">
                <a:off x="-4680" y="1984320"/>
                <a:ext cx="2238120" cy="1162080"/>
              </a:xfrm>
              <a:prstGeom prst="cloudCallout">
                <a:avLst>
                  <a:gd name="adj1" fmla="val 62041"/>
                  <a:gd name="adj2" fmla="val -31967"/>
                </a:avLst>
              </a:prstGeom>
              <a:solidFill>
                <a:srgbClr val="c0504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3200" spc="-1" strike="noStrike">
                    <a:solidFill>
                      <a:srgbClr val="ffffff"/>
                    </a:solidFill>
                    <a:latin typeface="文鼎標楷下漢語寬拼音C1"/>
                    <a:ea typeface="文鼎標楷下漢語寬拼音C1"/>
                  </a:rPr>
                  <a:t>開始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  <a:ea typeface="新細明體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Cloud Callout 6"/>
              <p:cNvSpPr/>
              <p:nvPr/>
            </p:nvSpPr>
            <p:spPr>
              <a:xfrm>
                <a:off x="5554800" y="5943600"/>
                <a:ext cx="2781000" cy="533160"/>
              </a:xfrm>
              <a:prstGeom prst="cloudCallout">
                <a:avLst>
                  <a:gd name="adj1" fmla="val 56263"/>
                  <a:gd name="adj2" fmla="val -68675"/>
                </a:avLst>
              </a:prstGeom>
              <a:solidFill>
                <a:srgbClr val="c0504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文鼎標楷下漢語寬拼音C1"/>
                    <a:ea typeface="文鼎標楷下漢語寬拼音C1"/>
                  </a:rPr>
                  <a:t>到了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  <a:ea typeface="新細明體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Rectangle 8"/>
            <p:cNvSpPr/>
            <p:nvPr/>
          </p:nvSpPr>
          <p:spPr>
            <a:xfrm>
              <a:off x="9131400" y="380880"/>
              <a:ext cx="158400" cy="384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8381880" y="0"/>
            <a:ext cx="15264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http://www.trafficsign.us/650/reg/r3-5l.gif"/>
          <p:cNvPicPr/>
          <p:nvPr/>
        </p:nvPicPr>
        <p:blipFill>
          <a:blip r:embed="rId1"/>
          <a:stretch/>
        </p:blipFill>
        <p:spPr>
          <a:xfrm>
            <a:off x="609480" y="380880"/>
            <a:ext cx="2876760" cy="3810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http://www.trafficsign.us/650/reg/r3-5r.gif"/>
          <p:cNvPicPr/>
          <p:nvPr/>
        </p:nvPicPr>
        <p:blipFill>
          <a:blip r:embed="rId2"/>
          <a:stretch/>
        </p:blipFill>
        <p:spPr>
          <a:xfrm>
            <a:off x="5410080" y="380880"/>
            <a:ext cx="2895840" cy="3657600"/>
          </a:xfrm>
          <a:prstGeom prst="rect">
            <a:avLst/>
          </a:prstGeom>
          <a:ln w="0">
            <a:noFill/>
          </a:ln>
        </p:spPr>
      </p:pic>
      <p:sp>
        <p:nvSpPr>
          <p:cNvPr id="70" name="Right Arrow 33"/>
          <p:cNvSpPr/>
          <p:nvPr/>
        </p:nvSpPr>
        <p:spPr>
          <a:xfrm>
            <a:off x="5029200" y="4343400"/>
            <a:ext cx="3733920" cy="20574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eft Arrow 34"/>
          <p:cNvSpPr/>
          <p:nvPr/>
        </p:nvSpPr>
        <p:spPr>
          <a:xfrm>
            <a:off x="0" y="4191120"/>
            <a:ext cx="3809880" cy="23619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1467360" y="49528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左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5257800" y="49528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右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www.trafficsign.us/650/reg/r3-5a.gif"/>
          <p:cNvPicPr/>
          <p:nvPr/>
        </p:nvPicPr>
        <p:blipFill>
          <a:blip r:embed="rId1"/>
          <a:stretch/>
        </p:blipFill>
        <p:spPr>
          <a:xfrm>
            <a:off x="2438280" y="228600"/>
            <a:ext cx="4476960" cy="6191280"/>
          </a:xfrm>
          <a:prstGeom prst="rect">
            <a:avLst/>
          </a:prstGeom>
          <a:ln w="0">
            <a:noFill/>
          </a:ln>
        </p:spPr>
      </p:pic>
      <p:sp>
        <p:nvSpPr>
          <p:cNvPr id="75" name="Up Arrow 2">
            <a:hlinkClick r:id="rId2"/>
          </p:cNvPr>
          <p:cNvSpPr/>
          <p:nvPr/>
        </p:nvSpPr>
        <p:spPr>
          <a:xfrm>
            <a:off x="6858000" y="380880"/>
            <a:ext cx="1905120" cy="5181840"/>
          </a:xfrm>
          <a:prstGeom prst="up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開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Up Arrow 3">
            <a:hlinkClick r:id="rId3"/>
          </p:cNvPr>
          <p:cNvSpPr/>
          <p:nvPr/>
        </p:nvSpPr>
        <p:spPr>
          <a:xfrm>
            <a:off x="380880" y="609480"/>
            <a:ext cx="1905120" cy="5181840"/>
          </a:xfrm>
          <a:prstGeom prst="up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走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新細明體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838080" y="1219320"/>
            <a:ext cx="48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nk, Pair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，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hare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ease tell, how d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t home from school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Rectangle 2" descr=""/>
          <p:cNvPicPr/>
          <p:nvPr/>
        </p:nvPicPr>
        <p:blipFill>
          <a:blip r:embed="rId1"/>
          <a:stretch/>
        </p:blipFill>
        <p:spPr>
          <a:xfrm>
            <a:off x="-152280" y="-6480"/>
            <a:ext cx="7259400" cy="121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trafficsign.us/650/reg/r3-5a.gif"/>
          <p:cNvPicPr/>
          <p:nvPr/>
        </p:nvPicPr>
        <p:blipFill>
          <a:blip r:embed="rId2"/>
          <a:stretch/>
        </p:blipFill>
        <p:spPr>
          <a:xfrm>
            <a:off x="380880" y="2133720"/>
            <a:ext cx="1505160" cy="2081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ttp://www.trafficsign.us/650/reg/r3-5l.gif"/>
          <p:cNvPicPr/>
          <p:nvPr/>
        </p:nvPicPr>
        <p:blipFill>
          <a:blip r:embed="rId3"/>
          <a:stretch/>
        </p:blipFill>
        <p:spPr>
          <a:xfrm>
            <a:off x="2209680" y="2133720"/>
            <a:ext cx="1465560" cy="1939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http://www.trafficsign.us/650/reg/r3-5r.gif"/>
          <p:cNvPicPr/>
          <p:nvPr/>
        </p:nvPicPr>
        <p:blipFill>
          <a:blip r:embed="rId4"/>
          <a:stretch/>
        </p:blipFill>
        <p:spPr>
          <a:xfrm>
            <a:off x="3962520" y="2133720"/>
            <a:ext cx="144756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5"/>
          <a:stretch/>
        </p:blipFill>
        <p:spPr>
          <a:xfrm>
            <a:off x="6629400" y="380880"/>
            <a:ext cx="2209680" cy="113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http://www.istockphoto.com/file_thumbview_approve/5665302/2/istockphoto_5665302-biker-on-motorcycle.jpg"/>
          <p:cNvPicPr/>
          <p:nvPr/>
        </p:nvPicPr>
        <p:blipFill>
          <a:blip r:embed="rId6"/>
          <a:stretch/>
        </p:blipFill>
        <p:spPr>
          <a:xfrm>
            <a:off x="6324480" y="1752480"/>
            <a:ext cx="2409840" cy="144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" descr="kid bike 032210.jpg"/>
          <p:cNvPicPr/>
          <p:nvPr/>
        </p:nvPicPr>
        <p:blipFill>
          <a:blip r:embed="rId7"/>
          <a:stretch/>
        </p:blipFill>
        <p:spPr>
          <a:xfrm>
            <a:off x="6858000" y="3352680"/>
            <a:ext cx="1828800" cy="1433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San Lun che 032210.jpg"/>
          <p:cNvPicPr/>
          <p:nvPr/>
        </p:nvPicPr>
        <p:blipFill>
          <a:blip r:embed="rId8"/>
          <a:stretch/>
        </p:blipFill>
        <p:spPr>
          <a:xfrm>
            <a:off x="6705720" y="4876920"/>
            <a:ext cx="1752480" cy="1504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walking 020110.jpg"/>
          <p:cNvPicPr/>
          <p:nvPr/>
        </p:nvPicPr>
        <p:blipFill>
          <a:blip r:embed="rId9"/>
          <a:stretch/>
        </p:blipFill>
        <p:spPr>
          <a:xfrm>
            <a:off x="3200400" y="4343400"/>
            <a:ext cx="1828800" cy="1851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https://www.crowdirect.co.uk/case/images/traffic_light_-_caution.gif"/>
          <p:cNvPicPr/>
          <p:nvPr/>
        </p:nvPicPr>
        <p:blipFill>
          <a:blip r:embed="rId10"/>
          <a:stretch/>
        </p:blipFill>
        <p:spPr>
          <a:xfrm>
            <a:off x="990720" y="4495680"/>
            <a:ext cx="1360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55:42Z</dcterms:created>
  <dc:creator>Monica</dc:creator>
  <dc:description/>
  <dc:language>en-US</dc:language>
  <cp:lastModifiedBy>Monica</cp:lastModifiedBy>
  <dcterms:modified xsi:type="dcterms:W3CDTF">2010-03-24T17:43:39Z</dcterms:modified>
  <cp:revision>3</cp:revision>
  <dc:subject/>
  <dc:title>Slide 1</dc:title>
</cp:coreProperties>
</file>